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370C-B1D0-4388-9E3C-AE0910DC7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ABE3-DF44-46CD-90BD-EF90D3A2F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C0CE-034D-4248-B1F8-78B29C4E7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364F-2ED6-4659-84F1-9E477EC4A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E38B-7877-4216-BF95-7E562E3DC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3DDE-0F9B-49B9-B7F9-EA33673F9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D717-DA01-48D0-A662-FCE03D9AA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9B5D-6BD6-4FC5-ADA6-1F87DE69B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781F-49F7-4864-AD46-92A5E275E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9A57-248C-45B5-B976-99C44B96C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C81A-501B-440F-AD55-2972F2B5F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A154-FE9E-40F2-83C9-CB25FB399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C520F-A852-4814-A92B-C71DBCA359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TECTÓNICA      Y      PAISA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 FACTORES   MAS  IMPORTANTES   QUE   INFLUENCIAN  LA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VOLUCIÓN   DEL   PAISAJE    TERRESTRTE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SON:    (1)    EL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EMPLAZAMIENTO  TECTÓNIC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(2)     EL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CLIM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, Y    (3)     LA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EROSIÓN  DIFEREN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UN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ESCUDO  CONTINENTAL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SULTA  DE  LA  FORMACIÓN  DE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UN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ADENA  DE  MONTAÑA  PLEGADA,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FORMADA  EN  UN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ARGEN  DE  PLACA  CONVERGENTE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Y  DE  L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EROSIÓN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Y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JUSTE  ISOSTÁTICO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SUBSECUENTES  A  QUE  ES  SOMETIDA,    Y  QUE  LA   REDUCEN   HASTA  UN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ÍSO   AMPLIO  DE  SUPERFICIE.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MUY  PRÓXIMO  AL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NIVEL  DEL  MAR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 RELIEVES  LOCALES  EN  UN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ESCUDO  CONTINENTA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SON  DE  MENOS  DE  100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m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,   Y    BÁSICAMENTE    DEPENDEN  DE  LA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ROSIÓN     DIFERENCIA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EN    LAS    ROCAS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IGNEAS     Y  METAMÓRF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 PAISAJES  DESARROLLADOS  EN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LATAFORMA  ESTABLESS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,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SULTAN  TAMBIÉN  DE  LA EROSIÓN   DIFERENCIAL,  PERO   EN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OCAS SEDIMENTARIAS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HORIZONTALES  A  LEVEMENTE   INCLINA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RENAJE  DENTRÍTICO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S  COMÚN   EN  LOS ESTRATOS  HORIZONTALES, DÓNDE     PRODUCE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 COLINAS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REDONDEADAS,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CUESTAS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,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Y  TÍPICOS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VALLES   DESPLAZADOS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,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QUE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E   FORMAN   EN  LOS  ESTRATOS  BAJOS  INCLINADOS,   EN  LOS FLANCOS  DE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DOMOS  ESTRUCTURAL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Y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CUENCAS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ECTÓNICA      Y      PAISAJE   (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tinu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N  LAS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 CADENAS  DE MONTAÑAS  PLEGADAS ,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A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ROSIÓN  DIFERENCIAL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PRODUCE  UNA  SERIE  DE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IDG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Y 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VALLLE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,   CONTROLADOS POR   LA    DIRECCIÓN  ESTRUCTURAL  DE  LOS PLIEGUES.   EL  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PAISAJE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ES  UN  REFLEJO  DEL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IFT  CONTINENTAL    (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HORST  Y  GRAB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“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ILUVIOS”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 BASÁLTICOS :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PLANICIES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 Y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PLATEA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ARCOS  MAGMÁTICOS     (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NA  EROSIÓN  INTENSA  TERMINA  POR  BORRAR  TODO  VESTIGIO  O  RASGO  VOLCÁNICO,   DEJANDO  EXPUESTAS    LAS  RAICES  DE  ROCAS  INTRUSIVAS  PROFUND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7T21:36:13Z</dcterms:created>
  <dc:creator>Universidad de Chile</dc:creator>
  <dc:description/>
  <dc:language>en-US</dc:language>
  <cp:lastModifiedBy>Universidad de Chile</cp:lastModifiedBy>
  <dcterms:modified xsi:type="dcterms:W3CDTF">2001-06-27T22:33:18Z</dcterms:modified>
  <cp:revision>2</cp:revision>
  <dc:subject/>
  <dc:title>TECTÓNICA      Y      PAISAJE</dc:title>
</cp:coreProperties>
</file>